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E2577E0-7235-4E80-A31F-3ECBB978F42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B3AAE883-B5AA-4E85-8CE9-A4857323301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96298CB0-D0F0-444B-93E5-77B68D7BD55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E15C9557-37E6-4862-A6C3-264040F9833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5D5ACFFC-EF3A-482B-8C16-524761A18C2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272BAA-1ADC-4777-B8C1-D7A5F13D79F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5BFC9E1A-5F26-44D8-BC27-2EAE0E465BD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CCB4BA1C-0BF1-4A61-99BB-690933793F4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4F730B57-EB4B-4E28-9531-CA359BC0C9F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9E29FCD-2EE2-47B2-BEE8-F34E448071F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3F3381F-A26E-458C-B299-9114E53F7B2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A1BAADE8-40E7-4E55-AC1B-425D478A162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0D8A63-1C2C-497C-9EB4-7059E3EADE1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444EDB9-9A10-443F-BDB8-1613840F1E37}"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4C011E5-A580-4162-921A-24442EA83A24}"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DFAD37F-3E1F-4024-A049-DE3526BD51A6}"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FDC340-B8AE-4BE6-A78D-4450DF934B46}"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6150A9-D9A8-457B-A58C-13ABA46E6C89}"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9DED03-9326-4456-B798-4A4189AB9381}"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3FF10F3-9BD2-430A-BD35-08CEF3400C87}"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82C201-C4B3-4124-8D5C-00AA329D226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78178A-A611-4751-9BE5-2D0E5874F5C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703C4D6-229A-4DC9-856E-189CA36FCAD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C79B6A-B49C-4C0C-867D-977ADDD35A0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7234D95-40F5-4C27-9345-34A3C20197B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5DE1A75-BCF7-4031-8D8D-8864EF75832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BDBA90E-9223-4652-8DCC-FBCFAA4FF0F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4A0C29-31A6-4022-A08A-9AD5423382E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8ACE7F-10D4-4FF9-81DA-C9282A6E37B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BB24B36-7E21-4C70-B2EC-0646E4A1522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5A880F-D4C5-44B8-8122-A6ADAE2F7DC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CA766F-9C3E-42C5-8573-F2C5245E4A7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655524-3B9A-4914-87AF-CA10B5CEBCE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48F0324-3872-4519-A0BF-28F0D3D8A09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CF03830-CF14-40CA-AB9E-FE2ABE20C0B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E9C2728-14B0-4274-BEAE-11476137BE1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71769F9-E207-47D1-A3F9-21A6AB2A685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9EC8E0-42B3-4A72-8D3F-51948CAAEF2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1634057-E81A-4658-9640-B3028F0EDA4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E8819B3-6F16-45A2-900C-6373DDC134E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F2F77D-7925-49FA-AF26-23AC0ACCD2F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914233E-BD2D-41C1-A667-9864F042DC2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927C6A-196B-4998-B3EF-2B615E71B00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93A8CA3-DFE5-42E4-AFFF-89DC0F696F9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93CD30-2865-4CC0-992A-91C41DCB773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7352DC2-D4B6-4D2D-B896-AB8A45D1B13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347BC6-7530-4D35-AF8A-06C9A7365E4C}"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4E63FFB-7CD6-4496-8524-949DCA7B2C5D}"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1B5861-6826-44BE-8D1B-1CFAC8A03C6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1F2757-76D3-42A5-9B5A-3ABFC6EE8A32}"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A40873DA-A95C-4ADD-809F-BDB3AF4A8C48}"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FAB7D2-8F64-48D8-B8DB-CFAAF8C848FC}"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7D54D6-05D8-439A-868B-79394D0E36DB}"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4125F2-7875-4DCC-826F-7BDCAE91FB04}"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E9A868-9E52-48B2-9D76-66605B100FDB}"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280DEDE-8217-45E1-BA74-5ED6AF7ADCD3}"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B5C65F-B15A-4CBD-B163-130D9EEC20FA}"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DE9149-1C3C-4AE4-951D-86E349E6183D}"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D038882-3971-4B42-A1F9-98404E636551}"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71799A-A14E-4F5B-B693-C9E970F69E94}"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B9EF851A-3278-4DFA-AA79-080781CD4A8E}"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C72F118-4CAE-4CE5-BFC3-3256A6626CE6}"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79FE63F-902F-4439-95F7-8239FA219DFF}"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3D5E85-22FD-4BC5-A7F0-BB22930307D6}"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F22657-8DD8-4FAC-9EFC-109BBF28EEE9}"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5DA0544-C7C6-47A2-A9C6-B6C4A039E52E}"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9B531D-2A5F-48A4-A747-9E2CF575AF88}"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063217-28D0-40CB-9BC1-8318872E1F4A}"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A984706-18C3-4566-8983-9A693BAEB511}"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214BBD-7D41-44EF-828B-19C44BA9B860}"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509AE1-51F0-4828-8864-C553D7FC435E}"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8C104A06-10CF-46C3-880D-D1DB0C8DE91A}"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37114D9-6AC3-4D2C-87EF-D83AC329F961}"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8F67A7-903D-4280-B292-B32E74631CB3}"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7A3BA25-9E00-4F16-BE43-2F57F2F3F818}"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03CAF2-2AD0-4820-9509-A0637644313F}"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C9CE864-FCD0-41CF-BF0D-E6AA0C1BBBE7}"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ED002B-EE98-4097-A78B-A0739EDF6AE2}"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828477-30DF-42D8-A191-C404A17446A4}"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79A68F8-563B-4D50-A635-D30FE911FBCB}"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9C2851-D8E1-4CC8-81A6-F694F74681E9}"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8453F6-EAE1-43D4-B0A1-5ACBC8B604C7}"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F606D0-FB5E-4F30-9C44-E265567778B0}"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A46128A-38C6-4CD9-B23B-03CE91B63124}"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16F1CE-89FD-49B1-B63E-3C588B1E23D4}"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4938414-EB0B-44BE-8B55-76A9A7BAF0CB}"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D56B267-E9F8-4429-B38A-35F6641846E2}"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1C0CEB-1A8F-4F3F-BD0A-D31F9EB1CCB6}"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4D76597-3192-4C62-A48F-CCF68CDB1C45}"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7B2A36-188F-4427-AC85-311C9D41D641}"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580187-5D9B-4A5B-8384-5F155129EEFE}"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706780-9343-4349-9093-A7F773FA2F94}"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CD4D1C3-A6AB-490F-9515-534643977013}"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C4F445-4666-479C-808A-784E035FCEB7}"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B8AE32-6214-41C9-A113-C6DEFC1C46E7}"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F242DB-C60A-4BAA-BAC5-6D5D719C8642}"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0DBC10-0A67-4854-A601-EAB290EA7859}"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0B68931-2C40-4FE4-A79D-723355B980EC}"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545A9D-96D7-49A1-A335-28E4A6BB7FF7}"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CC16C9-2960-4ADC-8534-E288C354A9AD}"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02C18DB-C6C5-4B86-B57D-C878BE968BC9}"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AAF650-F5D1-42CB-8FC0-31FC97919015}"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031A495-58C5-447C-A881-634F4A3D1EF0}"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212C9A-FB2B-4B95-916D-A4F054B6A7EE}"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2F276E5-DBA2-4D66-B7CB-9F772B56A3EA}"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5FA275-9CA2-436D-8F02-F01B6DFE3824}"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6036F4-7362-48E8-A783-157A4108E03E}"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02FE04-025E-4D72-9AAF-5C369A6647DB}"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40B8BD-7CE7-43F8-B5FC-3A8A99113EC7}"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4BEB0BD-7185-4BC9-85F6-10A777A8A2E3}"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583A06-B1CC-4E09-B479-DC7F2AE5162E}"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B828103-BBC7-4666-AC27-34A03290C929}"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DDF8EAE-D771-4E85-AF26-F4CC3AD624A3}"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268FA7-0B98-4522-96A1-D880E12C4B65}"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80AD0FF-F088-46EB-8540-94FF9C763363}"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202D30-4BC1-43C1-B0BA-970D5AC920A0}"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E84207D-8B43-43CF-AC75-9730A8FE8DDB}"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