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52919"/>
        <c:axId val="56381863"/>
      </c:barChart>
      <c:catAx>
        <c:axId val="89852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81863"/>
        <c:crosses val="autoZero"/>
        <c:auto val="1"/>
        <c:lblAlgn val="ctr"/>
        <c:lblOffset val="100"/>
        <c:noMultiLvlLbl val="0"/>
      </c:catAx>
      <c:valAx>
        <c:axId val="56381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52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B9B-C651-4B7D-8BBB-E7C86482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ECE-3FAE-4708-A506-095CF0EB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8E0-343B-486C-9266-EAF3B92F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1FE-AE60-4D52-A34C-DB292DA7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3AF-6C35-4967-9B57-2D81EBE5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7DA-F86E-47B8-87E7-0E9FDF1C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52DC-6D45-4047-9BFC-30F02C42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C03-AAE5-47F0-ABBF-8751F509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EFC-D83C-413D-B817-80A8A3F6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7DC-B439-4AC5-80CF-06488262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D348-7910-46E4-A0C0-39F51F1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319-9F9A-4DFB-B50C-BC8E7078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BB1F5-A417-4B4D-AE63-9651166F9B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