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81259"/>
        <c:axId val="48515225"/>
      </c:barChart>
      <c:catAx>
        <c:axId val="62281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15225"/>
        <c:crosses val="autoZero"/>
        <c:auto val="1"/>
        <c:lblAlgn val="ctr"/>
        <c:lblOffset val="100"/>
        <c:noMultiLvlLbl val="0"/>
      </c:catAx>
      <c:valAx>
        <c:axId val="48515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1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9BF-4F74-432A-B6B2-5A64CAE3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F93-4C46-4118-BE8C-51B4EC4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36D-098D-4F06-9632-13DFBF72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BD1-5A0C-4412-8C1B-8A87AF5F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1E2-F2D2-425A-8214-677FBDD1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355-639E-4A55-83F6-069B1AF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A30-0D9E-414D-9272-4EEC44C1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9B0-4E32-45E1-8248-E951927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FF0-0EA5-41A0-A98E-B701044B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994-9F09-4A58-BBA7-DD9448B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508-96BF-4618-BC34-F0219FA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074-F317-47B6-809C-9FF90B7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721F-D24C-4C74-B4D8-7DDDA10ED7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