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92006"/>
        <c:axId val="62181683"/>
      </c:barChart>
      <c:catAx>
        <c:axId val="67892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1683"/>
        <c:crosses val="autoZero"/>
        <c:auto val="1"/>
        <c:lblAlgn val="ctr"/>
        <c:lblOffset val="100"/>
        <c:noMultiLvlLbl val="0"/>
      </c:catAx>
      <c:valAx>
        <c:axId val="62181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92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B85-6363-4430-AFAF-74510743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6F6-EA5A-4268-AA2D-FD0015A7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1B-B91B-4295-B2A3-BDA760A2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5D3-358F-4F15-8C28-C0A0137E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C06-57BC-4E8F-88EE-3CBF3005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8DA-7F20-4443-996B-4767BA55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426-84BC-4412-958D-C142B07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291-ABCF-4496-BD3D-BC908C25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8B0-1F60-4893-B247-C86F863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701-E324-4214-B452-D1B6B86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490-5AFD-4229-ADDD-8D85DBD0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61F-8E61-4158-8C7D-5FD4597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57A1B-8614-4F13-8CA5-5F9086C2C2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