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42355"/>
        <c:axId val="78251733"/>
      </c:barChart>
      <c:catAx>
        <c:axId val="8042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1733"/>
        <c:crosses val="autoZero"/>
        <c:auto val="1"/>
        <c:lblAlgn val="ctr"/>
        <c:lblOffset val="100"/>
        <c:noMultiLvlLbl val="0"/>
      </c:catAx>
      <c:valAx>
        <c:axId val="78251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2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AD5-D79D-4A0D-90FE-D24AA455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425-6BEE-4736-B525-0F197D9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A1E-CB2B-48C4-82C0-BED645BB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7ED-4F8D-4056-9FC4-D8C516AE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F4E-E850-4F41-9786-4C7124A1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5E2-F84A-41CD-BD12-7139189C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B46-DF37-4838-804E-6BE77034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479-94EB-468E-98A6-2A35F9B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92C-6FEC-41C3-937C-054A6A19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27F-7614-4D7E-B76D-A16C5DB3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A60-050B-483A-8244-21D82088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2BA-2F5F-4C5D-A310-FC4B37A5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7317D-CC1F-429B-842D-B81700F6E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