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EB50-3989-4030-976D-24261BBFB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5AC-58AF-4657-8D5D-64242A46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B9DED-B4B3-4C17-B05C-185F48C4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DDC2A-5399-4DCB-9BA8-620C0D77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324E2C-4F1E-4C57-8F30-1983F15D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C0014-A097-4D89-B3CF-332ED249F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85045-E2B9-4B77-931F-7AD033BE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810FFF-8B10-4239-A44F-397F48F6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15B16-4939-496B-A42C-664E4F80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7554E6-9F7B-4BA8-94BE-57BCA2B6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BAD69-2BE9-46DC-A09E-92A43497A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48DA93-4C28-40D9-91D3-A46AEF50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A6BB-7912-4F36-A318-A175F90BA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681C94-5364-4838-8C42-ECC14E88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85E043-D3CE-4F25-B50E-ACB6CFFD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4BC39A-0ADE-4AEC-81BF-6259B448A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E4857D-8C39-4AD4-9220-DC545984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9F53C9-09D8-4902-AAB3-0CF4931F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20E23B-1B68-4B2A-81A4-E11803F3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76FD596-7ED8-4CAC-AE18-2843208D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589814-5E94-46AC-804A-5489A989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DCE6FE-2CE7-4A2F-B118-6BFAED8D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6482A94-5820-4D67-99A9-C6527208F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618-B825-492A-912E-563BAB27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8C71DF-B6B3-4059-814A-1337AF94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A8F49-431B-44C1-BB76-DFE0FFFE8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463D1-4903-496A-B869-DBA5A7D3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F27AEB-1E2F-42C9-A48B-48074785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19D9AE-7A70-499B-AD34-41500C37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F9947C-992B-4713-9A11-ED1647D1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D089A-DC67-4DFB-BACC-F53550D0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F18C3-BAAF-49A6-80A1-3A5D48FE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2420A-01C8-47AC-B21B-36D86C62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6121C-39CE-41F3-8C3E-E5FE59A2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84CA0-7583-45D8-A41E-C63F67BE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8C9FE-21C0-4752-A808-0C6094F7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482D0-DF6C-47B3-8976-E9D251DB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2EB5F-C4A6-46E8-B3CB-17B44B924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EE808-D81A-4FA3-B9E6-D209ED22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742654-7E43-482E-B510-F48E4CEA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77E2FF-3DE3-4F36-83D4-D964E9F4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5D340A-D518-4181-8E82-C9388B01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AE32C0-F5CE-45FC-B12B-04AF6440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CE04AD-874C-45F9-B099-330A025C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8EBC4-FA8E-459C-81E1-2CB0C11A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F8C5-7D9F-4587-A0EA-9F0086F0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CF652-7ECC-4C7B-8A35-31B7D2DB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7D284-A1FF-47D7-8A69-552FFFA1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D427A-C7BA-43BC-BE9A-FA4D6DDD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3A3756-ED80-492F-8339-DE5125BE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8E96D8-EC17-4991-ACBA-1948BA41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DDCD-E22C-4590-B642-04137EF3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D518-B6EF-4E02-8E31-AF7351BA8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2248F-3EFC-4211-9959-3570A2765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56B7-005B-45EE-9B2F-7E4FF64B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E66D-165E-4260-A72F-C87253C2F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A551-5E08-4965-8116-A3D776EC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2B9A-D6AF-4239-BBE4-E46F10C8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0FFF-69E7-403B-9B38-CD1369F6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3A664-5D1E-400B-B442-8CB53204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EFC26-7AE7-400F-95CF-D361086F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47C8-C35D-4EC6-8753-BDAAA73A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5A63-BD9E-4572-9AB3-8B4ECDD6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D6336-6769-4D7B-90B9-F79B8949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0D60F-342B-43D2-9D7F-04471752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1E997-C7F0-458A-A551-6BB34117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4D7C3-CF2A-404D-B6CA-4903CF88D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FD0-6CBE-41D7-90A6-19189691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AE9B-FD1C-408E-8056-D55B7E91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E4D5-0CF4-4ADA-97AF-7966FD73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E34A-48FD-47A9-8CD0-08093371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9334E-6048-439D-B139-47DCEABD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741CE-7802-4309-95B0-2FD91919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6CF89-0F83-448E-9A21-163628EE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BAABA-9051-4B13-9266-42921A19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CA24-14F8-4D22-809D-17ABABD7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528F2-F76B-43F4-914E-C1C2C230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A972C-532F-4EF7-B2FE-0FA2EE25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16B7-0032-455B-B2E6-5CA3028F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5ADF3-C50A-4CEE-9497-695AE9FE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C8ED9-027A-4B4E-8471-EEB02358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6AE59-CFC7-4F71-A52D-A57643DD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52165-66DF-4C0B-B45B-0080F7AA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F9A5A-A8D2-49EA-A972-F83D9309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71D97-B0F0-48A8-99DA-658B4D49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9A8F5-0F87-4C7B-838D-E30E78B1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A9A98-3A6B-4823-8A15-9C33856F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35DAD-C269-4BD9-9413-B365EC2B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AAE5A7-A667-4063-9757-DC2D7DB5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BA8A-478E-472A-82F1-5F27FFFE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06DB81-F79C-4B78-BCB1-85779DFF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ADC2C-F5EA-461B-9332-A2B3247D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AB8687-5CE5-4AAD-A10D-2F0C2B8FA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FA8427-EC6F-457B-B39F-159F01D6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B4646D-6AFE-4962-96D0-89F180B97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55EF7-F53B-43C2-A1AF-239C2BD6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CC9A9-4CC8-4A00-AD1E-FF5D93F4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67DA3E-4EE0-460F-A05A-D5913B72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11AF5B-FEC1-4AF6-AA41-347B8B87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2375C8-FF76-487E-9D6C-A24487E1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ACDD-01D6-4444-9A6E-6DFF5E67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94D634-C33B-4DCC-8B99-FD31CF65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F231C-7D7C-47DD-A170-50871D167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38724-FE14-45CC-89B5-42D1E6DF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1D93D-B7AA-4668-89D6-ECA8B577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FE656-3D3B-4BB8-91E8-4B2C9E13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1FB5C-C8F0-4D06-A2EE-4D147189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1DEE3-7E18-4582-914D-6557E55E7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4CD41-CFB4-4985-9069-A7931C4E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74C65-4337-4374-9E2B-F022C7EF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E38F1-9E03-465B-9BA4-726256ED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AFB-C0B4-4F0B-9CAD-F2FF102B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02B1E-4BC4-4292-AD30-890BBC09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D3C16-2DF7-4EDC-8887-EAD18DF6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1B3EC-0A90-489E-BB4A-00EB1238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D5227-DD33-47B0-9C71-5D4E728B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F101A-3996-46CC-83EE-00AFE81B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9AEE6-6828-4036-89CE-4D08FF49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9C61D-0E69-4F06-85EB-2329C3DB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B2DB4-DD0B-4594-82FD-36D59A05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6D0F6-2348-40E7-9909-EFF03506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C4ABD-D651-4AAA-9167-684A2B7C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7AD-0B0D-48C4-BAC7-5F82A7C4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0F4D0-E811-4A84-887C-B9D9146C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EDA0F-D699-4F98-A9B4-F3A1A947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81384-28A5-4928-BCF4-A8C0FCDF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6C6B70-67B3-41C7-8CAA-0EBC4D0B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A34D6-887A-4055-8CBA-785A90ABD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2E6FE-7344-4FC6-A6AC-0ECF668B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1F6E0-F28C-4658-ADBE-71B36E50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1FFBC-6AEE-4057-8510-8A89B4C7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1F723-4351-4589-8C55-30375BBF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BFB82-50CA-433C-80A1-F17310CF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168-F0EF-47CC-9605-794F111F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397CD-9CE9-4111-9DE7-DB92A03B2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4C3EA-A026-4049-A88C-3FBFD258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56F77-106E-4F2C-ACF9-9A16C644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2AABE-72B5-4B22-98CC-5EE45EF6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799E7-01AA-4746-9807-3905477C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00060-2F1E-48F3-A77A-63F0EB87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5F186-9B22-4CA8-9B32-3035CE75A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98ACB8-DC1D-45FF-9936-4EC50E7F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73824-A416-4C62-AAAF-565F6840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3DE745-8CBB-4BE4-9E53-025290F25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C740-4149-4A6D-8C69-755463C963E0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7576-BFAD-4B46-91D6-9E5222EF0B9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A655-647D-4564-AF63-F8953BC2B6F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C769-A5EC-4BEE-9A2A-0F052D6FE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0856-77F2-44FC-9A79-1F4BAF6CC78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C0D9-8972-499F-9F50-937950CF0F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706C6-DD7C-42FA-A692-826C161E1B69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30F4-2B36-4B57-B9E7-A8567940DCB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C9F9-11D3-449D-A445-4B640CC3FDF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DBF38-2F59-4A57-9F06-03B58D7A726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A984-BEF2-4C1D-AB16-2D66C59010A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7A5C-9B8F-4A73-9310-128FDCBBF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6FF9-C87A-474A-B2D6-EC05F4F3275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D417-E8FB-48F7-AA76-05899E5933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E895-E042-468F-A055-82028D0E3DB2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40A8-8C0A-4167-8DB1-F2B43D434C5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7D3A-E386-47C6-9B56-27CEA11F870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93B3-DFCB-426F-BE45-8857E8C78C3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036E-70B7-4FFE-A7A8-6052EC847FF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A31B-3ED4-4E30-8148-18EA2DEE4C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9B1E-FB97-4CBC-A6D1-8E5A5D08EF14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3E80E-5745-4E7B-ABC9-2B32F4697B1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CC34-FF59-433D-9B5B-460183FFCC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20EE-5382-4A9D-B0B2-291F69521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BC03-7061-413A-9BFB-1154B02EEF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27231-16C0-4BD6-8647-F11F2AE7E05A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E3596-1695-496A-B0F7-BA2ED2800FF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732FBC1-2D00-4FAE-A0A0-BE88DA230E61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20E99-53F9-4B02-9601-2B0A4D486A1D}" type="slidenum">
              <a:t>3</a:t>
            </a:fld>
          </a:p>
        </p:txBody>
      </p:sp>
    </p:spTree>
  </p:cSld>
  <p:transition>
    <p:comb dir="horz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217A80-7CEB-4106-B75D-658463AAD8F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5963B15A-C495-4E23-B44E-D7CF662A4375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4000"/>
                            </p:stCondLst>
                            <p:childTnLst>
                              <p:par>
                                <p:cTn id="2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320F0-D881-4AB0-B5EF-81D8AB52FF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2B3C0C6-C5C6-4641-A03B-3B61E1DFFD18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B3FBE-A32C-4CB1-9B7F-66AFBEDA6E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B03D293-E734-48AC-81BE-4F26FFABEC30}" type="datetime1">
              <a:rPr lang="en-US"/>
              <a:t>07/28/26</a:t>
            </a:fld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