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662729"/>
        <c:axId val="4944595"/>
      </c:barChart>
      <c:catAx>
        <c:axId val="85662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4595"/>
        <c:crosses val="autoZero"/>
        <c:auto val="1"/>
        <c:lblAlgn val="ctr"/>
        <c:lblOffset val="100"/>
        <c:noMultiLvlLbl val="0"/>
      </c:catAx>
      <c:valAx>
        <c:axId val="49445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62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9EC4-9F5B-4D35-BF08-3D21FC8D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285-1BFB-43F5-8BCB-4FAA1051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33D-919F-48E2-9A77-795E9C30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0F1-77EB-418F-8ACC-4437FD86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EA2B-6322-43A0-8B19-2D3D6E42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ADD-38BE-43F1-A80B-56D8BC8D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CDD-958E-421D-B1C5-F93E9190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79D-53DA-4852-AB13-3D7C7A10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1C05-AEDB-4098-B384-C4509056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557-0287-48D3-B525-D60E2D54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FE4-395C-4FBC-BC6A-76A006C1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6A4-E260-49C9-AF20-6E17B495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E9E0A-54C5-4689-98D7-03A76D30FE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