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32133"/>
        <c:axId val="90604425"/>
      </c:barChart>
      <c:catAx>
        <c:axId val="33432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04425"/>
        <c:crosses val="autoZero"/>
        <c:auto val="1"/>
        <c:lblAlgn val="ctr"/>
        <c:lblOffset val="100"/>
        <c:noMultiLvlLbl val="0"/>
      </c:catAx>
      <c:valAx>
        <c:axId val="90604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32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36E-39DE-4FFB-B1B0-4283BB58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A3C-DBCC-4D4C-BDAF-452B7934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13F-0C41-4D2A-BAAB-7BCB6AFA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ED3-F175-411A-A895-C2CF541D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8BF-DE53-406D-8400-47BA535E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735-110A-4F54-BFA9-CA23B5B8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6A3-1898-4A71-B196-AD16FD9E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E50-14C2-4574-8C43-359B5B8E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718-B851-4632-A384-83B001ED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1D7-3548-458D-8C79-51BB80A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18B-497C-4E31-A1FD-07BA5530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DCB-2C50-410F-9F82-E0F5D756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37A02-4BAB-461D-9143-3B2D039F3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