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62032"/>
        <c:axId val="92389588"/>
      </c:barChart>
      <c:catAx>
        <c:axId val="73462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9588"/>
        <c:crosses val="autoZero"/>
        <c:auto val="1"/>
        <c:lblAlgn val="ctr"/>
        <c:lblOffset val="100"/>
        <c:noMultiLvlLbl val="0"/>
      </c:catAx>
      <c:valAx>
        <c:axId val="92389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62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218-970C-4DEC-8AD6-9FC14CB2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FCC-4889-40C0-B91F-AABA272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A0F-E886-4491-B07F-3C391495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5F6-9233-4A76-9BB8-3A996B24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E89-0AE8-41E0-B326-97EEA94C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AF5-FF6D-45CA-BE6E-A09B149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762-1482-4EA4-AD39-E2EBBA6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CDA-2109-4EF8-B505-22A95A8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6E4-CF9B-487D-B3D5-972D248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665-6E59-4BF8-8CCF-E940C8D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8E1-F904-4E0B-9DFE-6714B60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FC3-34BE-434B-88EC-A9B0D63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C7E74-C734-4616-9D44-D83B4BA51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