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425899"/>
        <c:axId val="70210401"/>
      </c:barChart>
      <c:catAx>
        <c:axId val="604258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210401"/>
        <c:crosses val="autoZero"/>
        <c:auto val="1"/>
        <c:lblAlgn val="ctr"/>
        <c:lblOffset val="100"/>
        <c:noMultiLvlLbl val="0"/>
      </c:catAx>
      <c:valAx>
        <c:axId val="702104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258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4707-69ED-4258-9768-E40DE76D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1E06-20C8-464A-8F95-2065D529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8167-5F5F-4F45-97BA-5A3B1B1A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060C-52C3-4165-AA19-6F3FFFBBF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B133-7F05-4FDF-BAC2-B8AB1AFC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2F87-3D25-4EDF-9563-9A0E618E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638D-6F74-4C72-965E-C89A0DD7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82C3-FDDB-41AB-80F0-FE60728B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A66F-53FA-48F5-8F20-F6430FA6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A0BB-EEC4-40E9-9D31-315ABDFB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5387-357E-4F5E-857F-DC7E2BA9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CCAE-32B9-4426-9755-AE5A4EE6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F7424-1735-48BB-9118-A47DA78D26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