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85482"/>
        <c:axId val="85880500"/>
      </c:barChart>
      <c:catAx>
        <c:axId val="81185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80500"/>
        <c:crosses val="autoZero"/>
        <c:auto val="1"/>
        <c:lblAlgn val="ctr"/>
        <c:lblOffset val="100"/>
        <c:noMultiLvlLbl val="0"/>
      </c:catAx>
      <c:valAx>
        <c:axId val="85880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85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BDF-483C-48F3-9AC6-6925195F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95A-AF16-4E28-89C4-110F7AE5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C5E-738B-4167-BB88-D9C00F22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4C2-6F81-4B05-AD6C-5A6B0547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3F6-1325-4E52-AA3D-8DEB84E2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E38-BD6F-456A-87B5-D139FEA7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C7B-D285-4BCF-A3A9-8480B0C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03D-32E3-4495-BF60-925C8EB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757-D4EE-4059-A808-93103055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5F8-22FF-4C64-A569-F9D39DDD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E12-73F6-4BCA-BDD3-4F32F8C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055-DBF1-4F68-AC3A-CAC10D6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9AE43-4A6E-4825-87B3-4B14D4451E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