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712807"/>
        <c:axId val="47419348"/>
      </c:barChart>
      <c:catAx>
        <c:axId val="887128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419348"/>
        <c:crosses val="autoZero"/>
        <c:auto val="1"/>
        <c:lblAlgn val="ctr"/>
        <c:lblOffset val="100"/>
        <c:noMultiLvlLbl val="0"/>
      </c:catAx>
      <c:valAx>
        <c:axId val="474193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7128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58C1-E9F5-43FD-A047-1E53A43D9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11F0-7416-4CE1-94A3-2E359692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7688-192D-45A7-BF0B-2CF0E94A1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0DDE-ED2D-4DD4-830F-2639C80B2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E2B0-0AFC-42A2-A72D-6134B9CB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3369-57D6-4B0E-850C-B2F48DC3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184C-A783-4AEF-9CE6-15F3B3B0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C353-454B-4C52-8967-45D182A0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6B67-23DF-4D05-B096-2DA1B437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A73B-7FA1-42B1-958A-600E1845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1704-D4EE-484D-9974-B9D151D1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1E99-573B-47B3-A248-8FA89C40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51733A-1081-408A-84F2-B6165B4640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