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16630"/>
        <c:axId val="43704272"/>
      </c:barChart>
      <c:catAx>
        <c:axId val="65016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04272"/>
        <c:crosses val="autoZero"/>
        <c:auto val="1"/>
        <c:lblAlgn val="ctr"/>
        <c:lblOffset val="100"/>
        <c:noMultiLvlLbl val="0"/>
      </c:catAx>
      <c:valAx>
        <c:axId val="43704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6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846-47AB-46BC-9EE6-0561DB15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020-49EB-4FD6-8C77-2AA3587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D74-B6AE-4B71-8784-54E38C85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9C8-2512-48DE-8929-F31CCF07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2FC-BC9C-4CD5-9BBF-C45D7568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1FF-FC95-4AFC-95A6-D0444CDB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37A-1707-4F29-9523-56835769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271-F655-4F97-AEB8-A5225D3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0A4-18AE-4EE5-9ACE-CF0C459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1AC-D3D6-48C4-BDA8-1DD6040B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BF5-95FD-461F-BEF0-C50BB17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3E0-E02E-463B-93ED-26AFE3A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9FBA0-0EF8-4C95-AA7F-9D368E3921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