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758863"/>
        <c:axId val="59265030"/>
      </c:barChart>
      <c:catAx>
        <c:axId val="237588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265030"/>
        <c:crosses val="autoZero"/>
        <c:auto val="1"/>
        <c:lblAlgn val="ctr"/>
        <c:lblOffset val="100"/>
        <c:noMultiLvlLbl val="0"/>
      </c:catAx>
      <c:valAx>
        <c:axId val="592650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7588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E0DB-86A3-4485-BF5E-E97A108D3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7CDB-3A36-46F4-822F-039463083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3D61-331A-46B9-9F3C-F3FCDD672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D781-9728-48BF-8AC7-5B9D21419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05C7-D7E1-42C8-B090-B2817C802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0F66-4758-46F7-B56F-17B3A1A1D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9CC3-330B-4582-88C9-3CDC2ECD4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A555-59FE-491C-B180-3ADF408A8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EA60-7067-4C00-83E3-CB180C6B0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5F91-AF88-41B6-9E44-2CCFD74B2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7053-78DF-4F30-987B-66CAD47F3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6715-3D73-4B4F-B9E8-4847323BD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820E32-0731-46A5-8FD9-F896E75CBBD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