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92348"/>
        <c:axId val="91306187"/>
      </c:barChart>
      <c:catAx>
        <c:axId val="18192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6187"/>
        <c:crosses val="autoZero"/>
        <c:auto val="1"/>
        <c:lblAlgn val="ctr"/>
        <c:lblOffset val="100"/>
        <c:noMultiLvlLbl val="0"/>
      </c:catAx>
      <c:valAx>
        <c:axId val="91306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92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C95-4EC6-4953-8ECA-FCB8F45F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66E-D5E8-4F6F-8253-659F81F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31D-D38C-4EB8-A970-6881C147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DEF-E548-4B1A-B830-9FEBC31E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A0E-6943-4085-B457-179B8CF2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4D0-8AC7-42DB-BB90-50FD641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E46-FF35-488B-9D47-379A346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D0B-4347-4D3F-9D77-34386C4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CD9-F06D-43BC-B853-AF511A2A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A89-1982-4372-A380-A9A7CDD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298-1EB6-43B2-9C87-28DEF4C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9D2-5E8E-45C5-9454-F01E2C9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CE21-F7D8-476B-BCA8-2997A66AC0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