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96344"/>
        <c:axId val="66738668"/>
      </c:barChart>
      <c:catAx>
        <c:axId val="40896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38668"/>
        <c:crosses val="autoZero"/>
        <c:auto val="1"/>
        <c:lblAlgn val="ctr"/>
        <c:lblOffset val="100"/>
        <c:noMultiLvlLbl val="0"/>
      </c:catAx>
      <c:valAx>
        <c:axId val="66738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96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D56-CAA2-4F11-82F2-BC951D2B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9E6-6CC5-40D2-B5E3-10B7116C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0E3-E723-4CA2-B7D4-E2DD72FC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4D5-FE56-427D-B732-213411EC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C45-EE6D-4989-A7FC-43481986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B66-DC86-47F0-8DD2-8C0F990A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1EC-D386-49BE-89C4-F0008F35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70C-0BD9-4408-AFC4-93843961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651-BAAB-4F96-9910-D56D10D8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F2B-0F58-47FF-B57E-27E64384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364-49CA-4972-9D39-6A51DB1A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B56-66FD-4122-AABE-DDE3E680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5A5A7-EFD4-4326-84E8-C2115AF4EC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