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10978"/>
        <c:axId val="38733635"/>
      </c:barChart>
      <c:catAx>
        <c:axId val="73210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33635"/>
        <c:crosses val="autoZero"/>
        <c:auto val="1"/>
        <c:lblAlgn val="ctr"/>
        <c:lblOffset val="100"/>
        <c:noMultiLvlLbl val="0"/>
      </c:catAx>
      <c:valAx>
        <c:axId val="38733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10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E62-EF9C-46DE-A419-44B65B24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6DF-F2C4-444B-923D-10B32BFB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60E-1B2D-4E2A-8AAE-6286B8DF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004-7A6B-4833-8A1C-21BA6C59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39F-96EB-45AF-B2EA-A05334E6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817-AD71-49D8-B835-93BB596E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EA5-20A2-47AC-BA03-50BEAE5E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115-E0F3-4474-9984-14550FEF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BEA-600C-404A-9322-C8C60D6F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862-4807-4671-A7F1-35638817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AB0-0660-42AB-BC4A-27BB10A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FD2-9F65-4A0C-8EC2-6F967DC2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EC0FA-7FA1-4361-BE9E-BCBB3296E0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