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451595"/>
        <c:axId val="60334001"/>
      </c:barChart>
      <c:catAx>
        <c:axId val="634515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34001"/>
        <c:crosses val="autoZero"/>
        <c:auto val="1"/>
        <c:lblAlgn val="ctr"/>
        <c:lblOffset val="100"/>
        <c:noMultiLvlLbl val="0"/>
      </c:catAx>
      <c:valAx>
        <c:axId val="603340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515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5DD0-A0D3-458E-B7A3-62DF7F28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22E4-9363-40CB-9968-546734C5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A2A4-FAA4-47EE-9FA7-B60C6B13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217F-39A9-4CA6-8088-72308254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5CA-AD5F-46BD-98DD-97DB5ACA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08CA-779D-42B4-858A-2EE9A58F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0AE-9893-4F88-AA35-86E5A8DA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880A-98FC-4F83-9371-26D268CE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7287-0F60-4676-A39D-A8F535BB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073E-EEEC-45DE-8960-A865C990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C442-7E01-439E-8946-CE63502B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18C8-9045-495C-A44B-CC725593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1A0EF-0D63-43D9-9522-CE63F7CA21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