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13405"/>
        <c:axId val="28137673"/>
      </c:barChart>
      <c:catAx>
        <c:axId val="20913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37673"/>
        <c:crosses val="autoZero"/>
        <c:auto val="1"/>
        <c:lblAlgn val="ctr"/>
        <c:lblOffset val="100"/>
        <c:noMultiLvlLbl val="0"/>
      </c:catAx>
      <c:valAx>
        <c:axId val="28137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13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864-0C5E-4445-B4D9-C180ABA7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973-EB36-46C8-9DD2-537B48DE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613-1CC7-46CC-9964-FF7BF841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DF8-66D8-4BF9-8F89-567C8583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C2F-107E-4258-8C0F-7A51797B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AED0-CD30-4B76-8B2C-821189DE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EE5-3445-4D73-BB1D-B1425799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0A8-25C2-4F83-A5A7-F910492E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BFB-7ED1-4CF4-9A22-3D9527C2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511-245E-4CB7-8D1A-E83EF878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C83-4000-4313-9813-5712A7B1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EEB-7A8F-4385-9CD6-6F9B8E4F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C0B3F-3B57-4629-8DFD-40873EBB75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