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78274"/>
        <c:axId val="62447144"/>
      </c:barChart>
      <c:catAx>
        <c:axId val="49478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47144"/>
        <c:crosses val="autoZero"/>
        <c:auto val="1"/>
        <c:lblAlgn val="ctr"/>
        <c:lblOffset val="100"/>
        <c:noMultiLvlLbl val="0"/>
      </c:catAx>
      <c:valAx>
        <c:axId val="62447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8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A28-248C-4F06-A1DF-BAA12528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9AC-605D-4635-9723-B1A8177B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EE7-0886-4037-98BD-082EB49C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C2C-7C61-48AC-B1A4-BB154CA6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5BE-9D0B-4432-8CAE-60812D34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8C0-8F62-4086-908A-3343D97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47C-F754-4A51-A9A1-F907C2D5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2D9-2757-40B2-A0E2-204DD352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312-FB9D-415D-AEF5-86A376C6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22C-0CA2-4DD6-82DF-F5C1D4E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4BF-5782-428C-B346-89C724D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2EF-5FC9-4D3A-8486-B2020D38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6E29C-C646-49FD-ADC5-3157A538C5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