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45855"/>
        <c:axId val="93200156"/>
      </c:barChart>
      <c:catAx>
        <c:axId val="13945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00156"/>
        <c:crosses val="autoZero"/>
        <c:auto val="1"/>
        <c:lblAlgn val="ctr"/>
        <c:lblOffset val="100"/>
        <c:noMultiLvlLbl val="0"/>
      </c:catAx>
      <c:valAx>
        <c:axId val="93200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45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48C-DF67-4857-B661-E1863F82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EF5-7499-48BA-A91F-98F99E9A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676-D1FA-46C5-BC80-F5B12811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56A-1803-43B7-B9F0-6772B1FC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A2B-6AC6-49D4-A188-C1D753AC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AAC-C7F9-430A-9832-FBC93A88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487-544E-4208-A707-7ECD1496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2A9-AE61-4412-ADB7-99C424BD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58D-A916-47A9-AC0F-4183B173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941-D0E5-40EA-857D-804698F1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1D3-80AC-463E-BAC5-D1613A7C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FDF-23CA-4531-9F39-88486AD4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BE89E-5A46-4B1E-8928-3B34E9A10A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