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46158"/>
        <c:axId val="48793987"/>
      </c:barChart>
      <c:catAx>
        <c:axId val="83246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93987"/>
        <c:crosses val="autoZero"/>
        <c:auto val="1"/>
        <c:lblAlgn val="ctr"/>
        <c:lblOffset val="100"/>
        <c:noMultiLvlLbl val="0"/>
      </c:catAx>
      <c:valAx>
        <c:axId val="48793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46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06B-F928-4B11-9D60-D55278D4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0E2-EB43-41F0-9C69-03081D4F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74B-5DF8-4D4B-A19F-2EB90AA4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D75-B41F-4FED-B0A1-7B8B7AAB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E3B-CB0D-400A-BAC0-10008639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0E6-5C73-46FB-A7BF-17ECEE27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538-D4F2-4293-BAF3-629D0E91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FDE-1705-412F-84DE-52E7D239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CEC-F647-46F7-9914-5A80C79E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070-75E8-4B00-A1DD-F59803C8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DD0-F3F0-46AE-8D07-127D9527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A41-0FCE-4D11-8A79-EF97646B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24258-73CA-4C35-AD7F-A5AD88D6A7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