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42595"/>
        <c:axId val="6750677"/>
      </c:barChart>
      <c:catAx>
        <c:axId val="25425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0677"/>
        <c:crosses val="autoZero"/>
        <c:auto val="1"/>
        <c:lblAlgn val="ctr"/>
        <c:lblOffset val="100"/>
        <c:noMultiLvlLbl val="0"/>
      </c:catAx>
      <c:valAx>
        <c:axId val="67506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425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C242-A2EF-47C4-B02E-20EA7F81B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5441-F401-4D5D-BE1A-8511BF6D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A9C3-96BF-429A-A1F6-91F97446F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A50E-DACD-4876-9215-F942505F5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2DF3-4E0A-47D9-8184-E66482D1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E029-04A7-4438-BBB2-A5964F0B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6DE3-C2B3-4C42-828E-96FFDA41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CBE7-FFED-48E8-9FB4-2A785362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A561-B4AC-4783-A3EB-5C8F826D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BA9F-E13E-4342-A9CB-653917E9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8D17-B2D6-4EBE-A0F9-40903CB3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4F67-AD89-4AC2-A8CB-D36F41B8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CAF56-B5CA-4B0F-911C-3C8ED592CF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