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069667"/>
        <c:axId val="58889100"/>
      </c:barChart>
      <c:catAx>
        <c:axId val="120696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89100"/>
        <c:crosses val="autoZero"/>
        <c:auto val="1"/>
        <c:lblAlgn val="ctr"/>
        <c:lblOffset val="100"/>
        <c:noMultiLvlLbl val="0"/>
      </c:catAx>
      <c:valAx>
        <c:axId val="588891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0696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9C40-AEEC-4BB1-B094-ED1CD59F4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0B5E-1F20-4978-B228-7D892B2A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61AC-0D19-4586-A464-3863A05BC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378F-BD87-426B-BE92-B3C62371F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9808-FBE5-4A0C-AC6D-7188AC57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2984-E333-4DF7-A4C5-BDA67C0F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656C-654C-4DB5-B2AA-BFC5130E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D3D2-5EA5-4F15-A571-BABCF3EF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ABF6-4C23-4916-AD3B-D597543B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82E7-8E77-4FC4-B48F-CA747DF8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5638-79F9-41FC-8A40-3B238076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35D5-8E8B-45FF-80A4-E998778C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7F8FC-B28B-4FD3-8032-361A6499ED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