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329551"/>
        <c:axId val="81467474"/>
      </c:barChart>
      <c:catAx>
        <c:axId val="333295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467474"/>
        <c:crosses val="autoZero"/>
        <c:auto val="1"/>
        <c:lblAlgn val="ctr"/>
        <c:lblOffset val="100"/>
        <c:noMultiLvlLbl val="0"/>
      </c:catAx>
      <c:valAx>
        <c:axId val="814674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295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61F1-0AD9-42B3-9487-9CEAD289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3CE4-EE90-4203-83FC-BF864A80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084B-F32B-4DAF-812D-47599C0E5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2E42-8A6C-40A8-9D06-1523146AA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EA98-6CB8-42EA-994C-E5060E78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6506-9865-488B-8741-2A4DA5DC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23E4-3CA8-4859-BEF4-5FF864AF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24EE-2064-439E-B5CD-9EE9870E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DB68-AF90-45F5-A06F-9418701F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EF02-1521-4729-8184-3BEA067E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CA2A-5401-44F1-A732-90C1459D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0365-E596-4F4B-8216-E91CA57F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CD876-82BA-4930-B4FD-F623ECD913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