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96427"/>
        <c:axId val="28352917"/>
      </c:barChart>
      <c:catAx>
        <c:axId val="97496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52917"/>
        <c:crosses val="autoZero"/>
        <c:auto val="1"/>
        <c:lblAlgn val="ctr"/>
        <c:lblOffset val="100"/>
        <c:noMultiLvlLbl val="0"/>
      </c:catAx>
      <c:valAx>
        <c:axId val="28352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96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191-B8ED-4B3E-A58B-66B00EF8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E3B-BAEA-424A-981B-C76FCE07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16C-1F77-4EF2-80A2-55E1D6A2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C0B-3C2C-4CFC-8CC1-2A3CB034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9A1-B586-4298-80DA-1D3A5620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407-1F4D-4101-84A4-19F3E944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61F-D24B-4C50-8ED2-930FB1D7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017-EB45-4815-99EF-6EA3EAE6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8F4-B267-47DB-B110-449EB02D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674-FE46-479B-857A-C332B6B8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F78-FABD-4402-BEB6-7817E928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812-2481-471E-B067-CAA8E361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119BD-C9DA-4535-BB87-A5BB91E810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