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76215"/>
        <c:axId val="82888951"/>
      </c:barChart>
      <c:catAx>
        <c:axId val="74776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8951"/>
        <c:crosses val="autoZero"/>
        <c:auto val="1"/>
        <c:lblAlgn val="ctr"/>
        <c:lblOffset val="100"/>
        <c:noMultiLvlLbl val="0"/>
      </c:catAx>
      <c:valAx>
        <c:axId val="82888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76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252-36BC-4A7F-A239-F848AE16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943-8E44-4CE5-AFAB-0A81B506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D6C-E94E-4390-927D-514EDB79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D16-0F69-4421-A15A-F8CBBC6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805-E3D4-4973-915C-96887C89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3E4-DECE-428D-8F76-59BEBC34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32D-1548-406E-B46C-680C3E6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7FF-9BF8-4924-8CB8-1B89AB76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4D8-9454-40D5-AF03-253F1571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CE0-FB6F-45B7-8920-07185C1C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058-31F0-4456-86F2-648C672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363-D677-4EEA-AAA2-4F50A09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A8DA7-9F3A-48AF-BE35-F098B0F474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