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934290"/>
        <c:axId val="8943936"/>
      </c:barChart>
      <c:catAx>
        <c:axId val="569342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3936"/>
        <c:crosses val="autoZero"/>
        <c:auto val="1"/>
        <c:lblAlgn val="ctr"/>
        <c:lblOffset val="100"/>
        <c:noMultiLvlLbl val="0"/>
      </c:catAx>
      <c:valAx>
        <c:axId val="89439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342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EB04-E030-4502-B474-587F77F8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F6B3-F79B-4753-8DA8-F8075A2A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9CAB-667F-452A-92AF-59291CEB6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6911-99F7-48D5-9AAA-4315004E0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FB7A-E608-4971-8E3D-5D663027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4C1C-5D2A-4109-9466-1A382B22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4B39-C720-4094-91D5-1D51E460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116F-E357-44F0-A30D-D2DDE606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7366-3613-49A5-AFDD-0AE08A56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C540-33AA-406C-A07F-67075A32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D9D2-00AB-48BA-9133-5837E78D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3E48-4B79-4B04-804F-DA1C1A2A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3E945-3BD2-40CD-A974-A347F344AA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