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744267"/>
        <c:axId val="63405076"/>
      </c:barChart>
      <c:catAx>
        <c:axId val="327442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05076"/>
        <c:crosses val="autoZero"/>
        <c:auto val="1"/>
        <c:lblAlgn val="ctr"/>
        <c:lblOffset val="100"/>
        <c:noMultiLvlLbl val="0"/>
      </c:catAx>
      <c:valAx>
        <c:axId val="634050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442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8F8C-4A2D-4F1E-BC0B-68F77B83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E3E0-7B56-4CA1-80F0-1494F71A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DD39-3A85-49B6-B232-3360DFA0A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C017-FD16-4D9B-A5A0-A005E7B7E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EBD5-5801-41D2-83E3-ACFD4454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72BC-0808-401D-AFD0-85F0D85D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C395-ED61-4198-B642-37736F96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A897-4FAB-45D6-8763-1CABC30F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345D-56A4-4BCA-A3F3-7E9E1513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7C01-2B3F-495D-A688-7E1098BE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90AD-3A40-416F-A03D-BCD99C5E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34CF-DFDA-4982-AA77-205A264E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3EC94-BA7C-4122-AA84-B5D735855F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