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83201"/>
        <c:axId val="73810345"/>
      </c:barChart>
      <c:catAx>
        <c:axId val="56683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10345"/>
        <c:crosses val="autoZero"/>
        <c:auto val="1"/>
        <c:lblAlgn val="ctr"/>
        <c:lblOffset val="100"/>
        <c:noMultiLvlLbl val="0"/>
      </c:catAx>
      <c:valAx>
        <c:axId val="73810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3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4CD-61F0-4CCD-BF08-5BEFA4F8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086-DDA0-4605-8C8C-B304C8C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D76-7D83-4D07-A1DD-926B8B29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C9D-8452-4885-B45C-43FF416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69D-BE57-4BDA-9ABC-0ED68E22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6EF-DA95-424F-9B5D-7F85826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950-8B68-4076-9709-7573722F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59F-D34A-4FB0-B023-378C21F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90E-26AB-4BDF-B1E8-B87AFDA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189-DE66-44F0-88A4-8C14DA9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92F-C589-4196-A4CE-4930F78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835-8655-4F8D-BD8E-B5DE9FF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5793-A901-4FE0-AC34-B6A0D920B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