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375"/>
        <c:axId val="26160693"/>
      </c:barChart>
      <c:catAx>
        <c:axId val="786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0693"/>
        <c:crosses val="autoZero"/>
        <c:auto val="1"/>
        <c:lblAlgn val="ctr"/>
        <c:lblOffset val="100"/>
        <c:noMultiLvlLbl val="0"/>
      </c:catAx>
      <c:valAx>
        <c:axId val="26160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0FE-ECA0-4FB5-89F7-8DBFCF8A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74F-FB8B-4F69-B983-610BC9A3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F58-39B6-48D2-8775-BCC77058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745-6ADF-42F8-B86D-2E6AF56D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653-DCE7-4063-8148-DF2AFC9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EBB-A34E-4E7C-990B-3A6654EE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A55-824E-4929-86CB-6982E660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4A2-5CE1-494D-B9BB-9B35D9DC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9A8-2581-44FA-9764-B56D44A7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4DA-AD73-4AEE-9852-7C66C41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3FC-1301-452E-87BC-EE4B656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626-316C-466E-BA50-210C5FA9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81097-706F-4BD4-9A72-83FCD89D1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