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924910"/>
        <c:axId val="40369675"/>
      </c:barChart>
      <c:catAx>
        <c:axId val="409249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69675"/>
        <c:crosses val="autoZero"/>
        <c:auto val="1"/>
        <c:lblAlgn val="ctr"/>
        <c:lblOffset val="100"/>
        <c:noMultiLvlLbl val="0"/>
      </c:catAx>
      <c:valAx>
        <c:axId val="403696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249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80F8-8EE5-4430-B1B6-9975330B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C0FB-8EAB-482D-A0BF-F526E735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85EC-1939-4AF9-ADF7-DF0D8592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0241-1AB5-4C53-976B-CC40F798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5F7F-872D-4454-812C-D0F722F1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482D-DE7E-4408-8675-700A0DAE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8B22-2D49-4561-9E1D-4D8A90D9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2F0B-F723-4CB5-9BB5-165D8211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A0AA-42D3-4C55-AC58-FAAB6773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C08C-7FBC-47F8-9209-F665B3B7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507A-860D-4AE8-AE7D-33DAFF27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E113-433A-4997-8AC7-F99C6DDC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6AC08-798F-457E-B3EF-A6F0CEA544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