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50672"/>
        <c:axId val="9183189"/>
      </c:barChart>
      <c:catAx>
        <c:axId val="84450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3189"/>
        <c:crosses val="autoZero"/>
        <c:auto val="1"/>
        <c:lblAlgn val="ctr"/>
        <c:lblOffset val="100"/>
        <c:noMultiLvlLbl val="0"/>
      </c:catAx>
      <c:valAx>
        <c:axId val="9183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50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C7C-C242-42CE-BCAB-B0847A4B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E8A-AA53-4004-A210-0804F3B3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B2D-8A39-496C-A641-956E5483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52C-BC75-48D3-8747-447EA7E2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231-3129-4718-BA49-97F301FE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8EC-D898-4B78-86D9-49C6C959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C2F-D1FE-42AC-95B1-7715E12E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F0D-5D71-403E-AF38-73468D2F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3C9-4B80-403F-BBE2-D14B2657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4B9-A124-408B-81E4-6AE71D51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AC3-93F0-4D1A-9D5A-D0B774D9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768-48EF-458B-99E7-1DE7F2B7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DFF51-EA2F-459A-BD91-B4F6C3261E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