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10994"/>
        <c:axId val="64282484"/>
      </c:barChart>
      <c:catAx>
        <c:axId val="18510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82484"/>
        <c:crosses val="autoZero"/>
        <c:auto val="1"/>
        <c:lblAlgn val="ctr"/>
        <c:lblOffset val="100"/>
        <c:noMultiLvlLbl val="0"/>
      </c:catAx>
      <c:valAx>
        <c:axId val="64282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10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936-A8CF-4E6C-AC5A-60E4CEC3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A77-0055-4E37-AF8E-357590DC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E7A-F445-41EE-A3DE-8F60234E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656-7540-4C67-8AC1-0AAEE08E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6FD-A80C-41A0-A256-7CE06A0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C10-4526-4823-9666-4C493C0F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3A4-300C-44F9-A4D1-A79A239F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A7A-0098-44F1-91EE-2567ECB8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AA9-E132-4AF6-8680-B59DE446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5CD-4CC0-4A2C-AA28-76C84F50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565-F60F-42F4-90AE-C45FA7B2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20F-2FB6-4851-A0D1-4A176F72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99F04-86CF-4775-A9E6-1AB8BAA181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