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421003"/>
        <c:axId val="97144893"/>
      </c:barChart>
      <c:catAx>
        <c:axId val="50421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44893"/>
        <c:crosses val="autoZero"/>
        <c:auto val="1"/>
        <c:lblAlgn val="ctr"/>
        <c:lblOffset val="100"/>
        <c:noMultiLvlLbl val="0"/>
      </c:catAx>
      <c:valAx>
        <c:axId val="97144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21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877-5FAF-467F-A819-1C5AAD08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1D4-4C77-48EE-A39F-F6B7BCF7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8CBA-EF5B-4656-9EBE-9AC96D56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D726-D36A-4BD7-A628-88DBCA15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02D7-3CDC-4FAD-A848-71528030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51FA-304F-448A-A040-752F0E45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A350-EB47-4EB3-8E24-16087E87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E1E0-7F89-45F1-9FD8-3D48A2A3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947C-2828-43CF-8779-7AC9E53F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47B-0B82-4D53-B8B6-18C71F1B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1C2A-3030-43F3-80FB-3B2933FA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CEE-A40B-443B-A316-99219B54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038B9-B7B1-4B51-ADE2-564D869D82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